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756-29FC-4C92-B129-BCD516C7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E99-BDB0-43B7-B2E9-69FE2A0C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06C-BB09-4417-AD37-04CC6AB0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EF0-D253-4994-8F79-24F72A16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9D0B-C038-4CFF-98A8-8DE0C429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29E4-14BD-4C1F-A40F-C5773F98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8894-A990-4F10-A707-55DE1DE4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6490-5F09-486A-B9C9-B37CA290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FAE1-ABFB-47FD-9422-5963B5BD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7E4A-6B0E-4B99-84BE-B8C42941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70CE-6283-4D19-8CED-3DE5E6D1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89E-DE4F-4694-A10D-51F5A42B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23B2-5FAF-469A-BD86-6D7CEF91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1DB5-482A-4308-8767-83A4E26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C7BA-FBD6-4B4E-8A90-AEA4FE08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BCCF-B516-4C9B-A12F-928289EC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FF80-D316-40A8-BC6D-DEF636A9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2EB-C36D-4BBE-930C-E1C26CE4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42B-6C36-4674-803D-4FD0F48D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E99-88FD-4674-84F3-C9268A19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779-8F4D-498F-B30E-02835C50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BDC-4159-46FD-B4CC-2F6513E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8D1-F145-47BF-8AD7-E370D243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79B-A64A-407A-A2A4-6EA421E0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D487-C02F-40D0-80E8-DC837008022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040A-CB30-4897-9988-9D73F5B75D1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Genetics and Hered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4724280" y="1523880"/>
            <a:ext cx="4114800" cy="3353040"/>
            <a:chOff x="4724280" y="1523880"/>
            <a:chExt cx="411480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5460840" y="2093760"/>
              <a:ext cx="3378240" cy="2783160"/>
              <a:chOff x="5460840" y="2093760"/>
              <a:chExt cx="3378240" cy="278316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460840" y="2093760"/>
                <a:ext cx="3378240" cy="2783160"/>
                <a:chOff x="5460840" y="2093760"/>
                <a:chExt cx="3378240" cy="2783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460840" y="2093760"/>
                  <a:ext cx="3378240" cy="2783160"/>
                </a:xfrm>
                <a:prstGeom prst="rect">
                  <a:avLst/>
                </a:prstGeom>
                <a:solidFill>
                  <a:srgbClr val="c9ddf1"/>
                </a:solidFill>
                <a:ln w="2232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460840" y="3485160"/>
                  <a:ext cx="337824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7126560" y="2093760"/>
                <a:ext cx="0" cy="2783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075360" y="1523880"/>
              <a:ext cx="2333520" cy="609840"/>
              <a:chOff x="6075360" y="1523880"/>
              <a:chExt cx="2333520" cy="609840"/>
            </a:xfrm>
          </p:grpSpPr>
          <p:sp>
            <p:nvSpPr>
              <p:cNvPr id="170" name=""/>
              <p:cNvSpPr/>
              <p:nvPr/>
            </p:nvSpPr>
            <p:spPr>
              <a:xfrm>
                <a:off x="6075360" y="1523880"/>
                <a:ext cx="7369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71960" y="1523880"/>
                <a:ext cx="7369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724280" y="2535120"/>
              <a:ext cx="552600" cy="1939320"/>
              <a:chOff x="4724280" y="2535120"/>
              <a:chExt cx="552600" cy="1939320"/>
            </a:xfrm>
          </p:grpSpPr>
          <p:sp>
            <p:nvSpPr>
              <p:cNvPr id="173" name=""/>
              <p:cNvSpPr/>
              <p:nvPr/>
            </p:nvSpPr>
            <p:spPr>
              <a:xfrm>
                <a:off x="4724280" y="2535120"/>
                <a:ext cx="552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69800" y="3864600"/>
                <a:ext cx="306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Y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829480" y="2473200"/>
              <a:ext cx="1180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3800" y="2535120"/>
              <a:ext cx="1111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3440" y="3863880"/>
              <a:ext cx="860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72320" y="3863880"/>
              <a:ext cx="938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09480" y="121932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hild with hemophilia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51460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Normal child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80988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Normal female child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10552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Male child with hemophilia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75248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9718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0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3434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0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563868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88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89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8120" y="990720"/>
            <a:ext cx="2895480" cy="609840"/>
            <a:chOff x="3048120" y="990720"/>
            <a:chExt cx="2895480" cy="609840"/>
          </a:xfrm>
        </p:grpSpPr>
        <p:sp>
          <p:nvSpPr>
            <p:cNvPr id="193" name=""/>
            <p:cNvSpPr/>
            <p:nvPr/>
          </p:nvSpPr>
          <p:spPr>
            <a:xfrm>
              <a:off x="304812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920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371600" y="2209680"/>
            <a:ext cx="685800" cy="2210040"/>
            <a:chOff x="1371600" y="2209680"/>
            <a:chExt cx="685800" cy="2210040"/>
          </a:xfrm>
        </p:grpSpPr>
        <p:sp>
          <p:nvSpPr>
            <p:cNvPr id="196" name=""/>
            <p:cNvSpPr/>
            <p:nvPr/>
          </p:nvSpPr>
          <p:spPr>
            <a:xfrm>
              <a:off x="1371600" y="2209680"/>
              <a:ext cx="685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743200" y="213372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20968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38098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38098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4724280" y="1523880"/>
            <a:ext cx="4114800" cy="3353040"/>
            <a:chOff x="4724280" y="1523880"/>
            <a:chExt cx="4114800" cy="3353040"/>
          </a:xfrm>
        </p:grpSpPr>
        <p:grpSp>
          <p:nvGrpSpPr>
            <p:cNvPr id="203" name=""/>
            <p:cNvGrpSpPr/>
            <p:nvPr/>
          </p:nvGrpSpPr>
          <p:grpSpPr>
            <a:xfrm>
              <a:off x="5460840" y="2093760"/>
              <a:ext cx="3378240" cy="2783160"/>
              <a:chOff x="5460840" y="2093760"/>
              <a:chExt cx="3378240" cy="278316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5460840" y="2093760"/>
                <a:ext cx="3378240" cy="2783160"/>
                <a:chOff x="5460840" y="2093760"/>
                <a:chExt cx="3378240" cy="2783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460840" y="2093760"/>
                  <a:ext cx="3378240" cy="2783160"/>
                </a:xfrm>
                <a:prstGeom prst="rect">
                  <a:avLst/>
                </a:prstGeom>
                <a:solidFill>
                  <a:srgbClr val="c9ddf1"/>
                </a:solidFill>
                <a:ln w="2232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60840" y="3485160"/>
                  <a:ext cx="337824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7126560" y="2093760"/>
                <a:ext cx="0" cy="2783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075360" y="1523880"/>
              <a:ext cx="2333520" cy="609840"/>
              <a:chOff x="6075360" y="1523880"/>
              <a:chExt cx="2333520" cy="609840"/>
            </a:xfrm>
          </p:grpSpPr>
          <p:sp>
            <p:nvSpPr>
              <p:cNvPr id="209" name=""/>
              <p:cNvSpPr/>
              <p:nvPr/>
            </p:nvSpPr>
            <p:spPr>
              <a:xfrm>
                <a:off x="6075360" y="1523880"/>
                <a:ext cx="7369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71960" y="1523880"/>
                <a:ext cx="7369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724280" y="2535120"/>
              <a:ext cx="552600" cy="1939320"/>
              <a:chOff x="4724280" y="2535120"/>
              <a:chExt cx="552600" cy="1939320"/>
            </a:xfrm>
          </p:grpSpPr>
          <p:sp>
            <p:nvSpPr>
              <p:cNvPr id="212" name=""/>
              <p:cNvSpPr/>
              <p:nvPr/>
            </p:nvSpPr>
            <p:spPr>
              <a:xfrm>
                <a:off x="4724280" y="2535120"/>
                <a:ext cx="552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X</a:t>
                </a:r>
                <a:r>
                  <a:rPr b="0" lang="en-US" sz="4000" spc="-1" strike="noStrike" baseline="30000">
                    <a:solidFill>
                      <a:srgbClr val="5b5249"/>
                    </a:solidFill>
                    <a:latin typeface="Tahoma"/>
                  </a:rPr>
                  <a:t>H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69800" y="3864600"/>
                <a:ext cx="306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5b5249"/>
                    </a:solidFill>
                    <a:latin typeface="Tahoma"/>
                  </a:rPr>
                  <a:t>Y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829480" y="2473200"/>
              <a:ext cx="1180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3800" y="2535120"/>
              <a:ext cx="1111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3440" y="3863880"/>
              <a:ext cx="860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2320" y="3863880"/>
              <a:ext cx="938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33520" y="91440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hild with hemophilia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209680"/>
            <a:ext cx="304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hild with normal blood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0384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Male child hemophilia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5410080"/>
            <a:ext cx="51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Female child w/ normal blood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25%  (1/4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20040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75%  (3/4)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64832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1/2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60199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00%  (2/2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81080" y="2362320"/>
            <a:ext cx="6248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Sex-Linked Traits Practi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You must do this </a:t>
            </a:r>
            <a:r>
              <a:rPr b="0" lang="en-US" sz="3500" spc="-1" strike="noStrike">
                <a:solidFill>
                  <a:srgbClr val="cc0000"/>
                </a:solidFill>
                <a:latin typeface="Times New Roman"/>
              </a:rPr>
              <a:t>individually</a:t>
            </a: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 and turn in for a daily grade </a:t>
            </a: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Long Lost Son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Blood Types &amp; DNA Fingerprinting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art 1:  Blood Type 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182880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Genotype(s) for Mr. Cash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429000"/>
            <a:ext cx="594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Genotype(s) for Long Lost Son #1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952880"/>
            <a:ext cx="601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Genotype(s) for Long Lost Son #2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243828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403848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i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556272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  or  I</a:t>
            </a:r>
            <a:r>
              <a:rPr b="0" lang="en-US" sz="3000" spc="-1" strike="noStrike" baseline="30000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i 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1371600"/>
            <a:ext cx="72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an Long Lost Son #1 be Mr. Cash’s son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11480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Can Long Lost Son #2 be Mr. Cash’s son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057400"/>
            <a:ext cx="670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No.  A person with type AB blood can never produce a child with type O blood.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876920"/>
            <a:ext cx="6781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Yes.  A person with AB blood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can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 produce a child with type B blood.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art 2.  DNA Fingerprinting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2133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ich of Long Lost Son #2’s DNA match his mother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352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ich of Long Lost Son #2’s DNA match Mr. Cas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800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ich of Long Lost Son #2’s DNA do not match either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6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3 &amp; 4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1, 2 &amp; 5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62120" y="1447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Is Long Lost Son #2 Mr. Cash’s biological son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286000"/>
            <a:ext cx="6172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Yes.  Half of his DNA comes from his mother and half comes from his father (Mr. Cash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n’t Forget……..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523880"/>
            <a:ext cx="60199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Genetics Quiz next period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Vocabulary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Monohybrid Crosses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Dihybrid Crosses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Blood Type Crosses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* Sex-Linked Traits Crosses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699160"/>
            <a:ext cx="7619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Be prepared when you come to class….            no study time!!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The Genetics of Blood Types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Multiple Alleles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You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MUST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know this from memory!!!!!!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7920" y="2133720"/>
          <a:ext cx="6095880" cy="40640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Phenotype</a:t>
                      </a:r>
                      <a:endParaRPr b="0" lang="en-US" sz="3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Genotype</a:t>
                      </a:r>
                      <a:endParaRPr b="0" lang="en-US" sz="3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  or  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  or  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AB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40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B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O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ii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98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99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048120" y="990720"/>
            <a:ext cx="2895480" cy="609840"/>
            <a:chOff x="3048120" y="990720"/>
            <a:chExt cx="2895480" cy="609840"/>
          </a:xfrm>
        </p:grpSpPr>
        <p:sp>
          <p:nvSpPr>
            <p:cNvPr id="103" name=""/>
            <p:cNvSpPr/>
            <p:nvPr/>
          </p:nvSpPr>
          <p:spPr>
            <a:xfrm>
              <a:off x="304812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523880" y="2209680"/>
            <a:ext cx="533520" cy="2210040"/>
            <a:chOff x="1523880" y="2209680"/>
            <a:chExt cx="533520" cy="2210040"/>
          </a:xfrm>
        </p:grpSpPr>
        <p:sp>
          <p:nvSpPr>
            <p:cNvPr id="106" name=""/>
            <p:cNvSpPr/>
            <p:nvPr/>
          </p:nvSpPr>
          <p:spPr>
            <a:xfrm>
              <a:off x="1523880" y="2209680"/>
              <a:ext cx="533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971800" y="21337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2096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B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B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3341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A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199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B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53341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AB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60199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O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3341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6019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53341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019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21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22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8120" y="990720"/>
            <a:ext cx="2895480" cy="609840"/>
            <a:chOff x="3048120" y="990720"/>
            <a:chExt cx="2895480" cy="609840"/>
          </a:xfrm>
        </p:grpSpPr>
        <p:sp>
          <p:nvSpPr>
            <p:cNvPr id="126" name=""/>
            <p:cNvSpPr/>
            <p:nvPr/>
          </p:nvSpPr>
          <p:spPr>
            <a:xfrm>
              <a:off x="304812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523880" y="2209680"/>
            <a:ext cx="533520" cy="2210040"/>
            <a:chOff x="1523880" y="2209680"/>
            <a:chExt cx="533520" cy="2210040"/>
          </a:xfrm>
        </p:grpSpPr>
        <p:sp>
          <p:nvSpPr>
            <p:cNvPr id="129" name=""/>
            <p:cNvSpPr/>
            <p:nvPr/>
          </p:nvSpPr>
          <p:spPr>
            <a:xfrm>
              <a:off x="1523880" y="2209680"/>
              <a:ext cx="533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i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971800" y="21337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2096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i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3341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A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60199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B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53341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AB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60199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Type O: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53341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6019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53341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6019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2362320"/>
            <a:ext cx="5562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lood Groups Practi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You must do this </a:t>
            </a:r>
            <a:r>
              <a:rPr b="0" lang="en-US" sz="3500" spc="-1" strike="noStrike">
                <a:solidFill>
                  <a:srgbClr val="cc0000"/>
                </a:solidFill>
                <a:latin typeface="Times New Roman"/>
              </a:rPr>
              <a:t>individually</a:t>
            </a: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 and turn in for a daily grade </a:t>
            </a: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ex-Linked Traits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Traits located on the X chromosome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(much more common in males)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You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MUST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know this from memory!!!!!!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2133720"/>
          <a:ext cx="8001000" cy="4086000"/>
        </p:xfrm>
        <a:graphic>
          <a:graphicData uri="http://schemas.openxmlformats.org/drawingml/2006/table">
            <a:tbl>
              <a:tblPr/>
              <a:tblGrid>
                <a:gridCol w="2971800"/>
                <a:gridCol w="50292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Genotypes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Phenotypes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Normal – fe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Normal (carrier)– fe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Hemophilia - fe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Y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Normal - 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3500" spc="-1" strike="noStrike" baseline="30000">
                          <a:solidFill>
                            <a:srgbClr val="5b5249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Y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5b5249"/>
                          </a:solidFill>
                          <a:latin typeface="Tahoma"/>
                        </a:rPr>
                        <a:t>Hemophilia - male</a:t>
                      </a:r>
                      <a:endParaRPr b="0" lang="en-US" sz="35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49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50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048120" y="990720"/>
            <a:ext cx="2895480" cy="609840"/>
            <a:chOff x="3048120" y="990720"/>
            <a:chExt cx="2895480" cy="609840"/>
          </a:xfrm>
        </p:grpSpPr>
        <p:sp>
          <p:nvSpPr>
            <p:cNvPr id="154" name=""/>
            <p:cNvSpPr/>
            <p:nvPr/>
          </p:nvSpPr>
          <p:spPr>
            <a:xfrm>
              <a:off x="304812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99072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371600" y="2209680"/>
            <a:ext cx="685800" cy="2210040"/>
            <a:chOff x="1371600" y="2209680"/>
            <a:chExt cx="685800" cy="2210040"/>
          </a:xfrm>
        </p:grpSpPr>
        <p:sp>
          <p:nvSpPr>
            <p:cNvPr id="157" name=""/>
            <p:cNvSpPr/>
            <p:nvPr/>
          </p:nvSpPr>
          <p:spPr>
            <a:xfrm>
              <a:off x="1371600" y="2209680"/>
              <a:ext cx="685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X</a:t>
              </a:r>
              <a:r>
                <a:rPr b="0" lang="en-US" sz="4000" spc="-1" strike="noStrike" baseline="30000">
                  <a:solidFill>
                    <a:srgbClr val="5b5249"/>
                  </a:solidFill>
                  <a:latin typeface="Tahoma"/>
                </a:rPr>
                <a:t>h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Y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743200" y="213372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220968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8098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8098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X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6:45:21Z</dcterms:created>
  <dc:creator>Plano ISD</dc:creator>
  <dc:description/>
  <dc:language>en-US</dc:language>
  <cp:lastModifiedBy>Amy Schilling</cp:lastModifiedBy>
  <dcterms:modified xsi:type="dcterms:W3CDTF">2008-02-07T13:59:55Z</dcterms:modified>
  <cp:revision>47</cp:revision>
  <dc:subject/>
  <dc:title>Genetics and Heredity</dc:title>
</cp:coreProperties>
</file>